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16A7-B1A4-4CC3-BEE0-A22220BF2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FBF8-232D-48E1-B0F6-380E8F2F6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9C47-BE9D-410D-9CA5-AF21ACDC0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F6E7-9143-4673-B43E-EFCCD74F3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E851-FD18-423A-AF77-2C9AF3AF8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7A78-0CB0-4DB3-9246-49F5450F0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AB5A-ED55-429A-810C-5AE206265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A5B1-C15A-4313-9BFB-F24DAA71B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6F7F-F171-42B1-9946-745B14954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A87D-A4C1-45EF-A1FE-03272908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060C-3C5D-4BD0-BBDA-F7FC789C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2AB5-28F3-4BD6-AD51-9F4AB737C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F3D75-65E6-4BD2-8AEF-9FC8C500B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228600"/>
            <a:ext cx="5715000" cy="61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away “en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ou’re left with the ste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is how we conjug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t’s do it agai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ch (I) add “e”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u (you) “st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r, sie, es, (he, she, it) all add a “t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9T15:36:34Z</dcterms:created>
  <dc:creator>udsd</dc:creator>
  <dc:description/>
  <dc:language>en-US</dc:language>
  <cp:lastModifiedBy>udsd</cp:lastModifiedBy>
  <dcterms:modified xsi:type="dcterms:W3CDTF">2009-01-08T16:00:17Z</dcterms:modified>
  <cp:revision>2</cp:revision>
  <dc:subject/>
  <dc:title>Slide 1</dc:title>
</cp:coreProperties>
</file>